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23.wmf" ContentType="image/x-wmf"/>
  <Override PartName="/ppt/media/image8.png" ContentType="image/png"/>
  <Override PartName="/ppt/media/image14.jpeg" ContentType="image/jpeg"/>
  <Override PartName="/ppt/media/image7.wmf" ContentType="image/x-wmf"/>
  <Override PartName="/ppt/media/image20.jpeg" ContentType="image/jpeg"/>
  <Override PartName="/ppt/media/image6.wmf" ContentType="image/x-wmf"/>
  <Override PartName="/ppt/media/image12.jpeg" ContentType="image/jpeg"/>
  <Override PartName="/ppt/media/image10.wmf" ContentType="image/x-wmf"/>
  <Override PartName="/ppt/media/image5.wmf" ContentType="image/x-wmf"/>
  <Override PartName="/ppt/media/image27.jpeg" ContentType="image/jpeg"/>
  <Override PartName="/ppt/media/image28.jpeg" ContentType="image/jpeg"/>
  <Override PartName="/ppt/media/image26.jpeg" ContentType="image/jpeg"/>
  <Override PartName="/ppt/media/image19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22.jpeg" ContentType="image/jpeg"/>
  <Override PartName="/ppt/media/image1.jpeg" ContentType="image/jpeg"/>
  <Override PartName="/ppt/media/image4.wmf" ContentType="image/x-wmf"/>
  <Override PartName="/ppt/media/image3.jpeg" ContentType="image/jpeg"/>
  <Override PartName="/ppt/media/image15.png" ContentType="image/png"/>
  <Override PartName="/ppt/media/image24.jpeg" ContentType="image/jpeg"/>
  <Override PartName="/ppt/media/image25.wmf" ContentType="image/x-wmf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8D99-CE9D-4616-BE7C-4D8D6BA7D8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5B3E-3871-4DDB-88DF-D594C1BB2A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87BB-3957-4FA4-A8A0-A1CD09824D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A3F9-01F8-463D-8B26-FFC141995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0E72-DBF7-48C1-B6CA-8AEBBC28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87A3-AA4A-4446-844A-AFDE88226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0769-0877-4981-96F5-ADAD13E73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B54A-357F-438F-BE4E-4D67992B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A003-8DE9-43EF-A38A-CE916FDD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E82F-80DD-48D3-9CF6-BB6C7517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DE96-88BB-40C4-8D15-E10334D7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2EF8-AA82-4AAD-953D-BB1B98D5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638A-19C4-4C13-ACD3-8598FE44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39F3-0DE6-47DD-96E9-D8245337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6FA9-D062-4C26-A0D2-0AD369D0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4EDF-A37B-4599-82EE-EAAB4BB717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wmf"/><Relationship Id="rId4" Type="http://schemas.openxmlformats.org/officeDocument/2006/relationships/image" Target="../media/image24.jpeg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352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&amp;I264: Language Arts in the K-8 Classro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nuary 15, 20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Building A Collaborative Learning Community: One Day At a Time"/>
          <p:cNvPicPr/>
          <p:nvPr/>
        </p:nvPicPr>
        <p:blipFill>
          <a:blip r:embed="rId1"/>
          <a:stretch/>
        </p:blipFill>
        <p:spPr>
          <a:xfrm>
            <a:off x="1600200" y="228600"/>
            <a:ext cx="594360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tendance for this class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9528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68000" indent="-4680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optional. I can get all I need by talking to a friend or just reading the material on my ow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8000" indent="-4680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pretty darn important. I must contact the instructor to let her know I will be absent and I am responsible for getting anything I mis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8000" indent="-4680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o important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 must show up even if I am extremely ill and have a raging fev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s://encrypted-tbn1.gstatic.com/images?q=tbn:ANd9GcSFa2p0gxdgLr2YVo-YkgYpMBuxKtkLZhSWJ2vbkQ3bWwEEsbyTxg"/>
          <p:cNvPicPr/>
          <p:nvPr/>
        </p:nvPicPr>
        <p:blipFill>
          <a:blip r:embed="rId1"/>
          <a:stretch/>
        </p:blipFill>
        <p:spPr>
          <a:xfrm>
            <a:off x="5284800" y="1143000"/>
            <a:ext cx="38592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any course assignments are there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" name="Object 5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74268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57160" indent="-74268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57160" indent="-74268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57160" indent="-74268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C:\Documents and Settings\dana\Local Settings\Temporary Internet Files\Content.IE5\RJJFC5G4\MC900007700[1].wmf"/>
          <p:cNvPicPr/>
          <p:nvPr/>
        </p:nvPicPr>
        <p:blipFill>
          <a:blip r:embed="rId3"/>
          <a:stretch/>
        </p:blipFill>
        <p:spPr>
          <a:xfrm>
            <a:off x="5029200" y="3389400"/>
            <a:ext cx="360216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restart="never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does one have to do to earn the participation and professionalism point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Object 5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792468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-514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st show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28560" indent="-514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 the material and be prepared to use that information in a class 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28560" indent="-514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ess professionally for clas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28560" indent="-514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ng the instructor cook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http://mypages.iit.edu/%7Evural/cartoon_2.jpg"/>
          <p:cNvPicPr/>
          <p:nvPr/>
        </p:nvPicPr>
        <p:blipFill>
          <a:blip r:embed="rId3"/>
          <a:stretch/>
        </p:blipFill>
        <p:spPr>
          <a:xfrm>
            <a:off x="762120" y="4495680"/>
            <a:ext cx="7461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restart="never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t D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Clinical Orientation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iday, January 25, 9:00, State Farm Hall of Business, Caterpillar Auditoriu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istory Museum Trip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dnesday, January 30, During Social Studies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ebruary 11-1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First week in your clinical s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April 1-19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Weeks in the clinical s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Mini Lesson/Writer’s Worksh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ing Mini Lesson/Reader’s Worksh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-Around/Sharing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ap-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rn and Tal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52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Ch. 1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anguage Arts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rn to a neighbor and discuss the follow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are you expected to do as a literacy teacher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have you learned in past classes about what your should be teach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questions are forming in your mind as you think about what you are expected to d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troduce yourself and tell us what you know about literacy instru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https://encrypted-tbn3.google.com/images?q=tbn:ANd9GcS_JHxUDEZ-hjFQpx3Msa_dRP0ZpmPt3cKztm47r41hCtajtiZj"/>
          <p:cNvPicPr/>
          <p:nvPr/>
        </p:nvPicPr>
        <p:blipFill>
          <a:blip r:embed="rId1"/>
          <a:stretch/>
        </p:blipFill>
        <p:spPr>
          <a:xfrm>
            <a:off x="457200" y="228600"/>
            <a:ext cx="17463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am I supposed to d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58672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quire on your own (Professional Develop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https://encrypted-tbn1.google.com/images?q=tbn:ANd9GcRMaX6PXUX8Dskq2dV6qKWJfzlPzH4p9DymE0acMqhovwY6YT1eKg"/>
          <p:cNvPicPr/>
          <p:nvPr/>
        </p:nvPicPr>
        <p:blipFill>
          <a:blip r:embed="rId1"/>
          <a:stretch/>
        </p:blipFill>
        <p:spPr>
          <a:xfrm>
            <a:off x="6756480" y="1219320"/>
            <a:ext cx="2035080" cy="152388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3962520" y="3352680"/>
            <a:ext cx="39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rict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http://cesu-curriculum.cesu.k12.vt.us/modules/groups/homepagefiles/group_webpage/1556877-2101805-282jpeg"/>
          <p:cNvPicPr/>
          <p:nvPr/>
        </p:nvPicPr>
        <p:blipFill>
          <a:blip r:embed="rId2"/>
          <a:stretch/>
        </p:blipFill>
        <p:spPr>
          <a:xfrm>
            <a:off x="1600200" y="2819520"/>
            <a:ext cx="2057400" cy="16570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"/>
          <p:cNvSpPr/>
          <p:nvPr/>
        </p:nvSpPr>
        <p:spPr>
          <a:xfrm>
            <a:off x="320760" y="5029200"/>
            <a:ext cx="524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Core State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http://www.curriculummapping101.com/images/home/ccssBackground.png"/>
          <p:cNvPicPr/>
          <p:nvPr/>
        </p:nvPicPr>
        <p:blipFill>
          <a:blip r:embed="rId3"/>
          <a:stretch/>
        </p:blipFill>
        <p:spPr>
          <a:xfrm>
            <a:off x="5715000" y="4800600"/>
            <a:ext cx="27925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467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br>
              <a:rPr sz="3100"/>
            </a:b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oughts about Writing </a:t>
            </a:r>
            <a:br>
              <a:rPr sz="3100"/>
            </a:b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(Lucy Caulkins, Katie Ray Wood, Donald Graves and Carl Anderson) </a:t>
            </a:r>
            <a:br>
              <a:rPr sz="3100"/>
            </a:br>
            <a:br>
              <a:rPr sz="3100"/>
            </a:br>
            <a:br>
              <a:rPr sz="3100"/>
            </a:b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riters need a sense of purpose. Make plans for what they will do- set go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teach writing well, we should know at least 5 details about the lives and interests of each of our stud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ad like a writer- notice how things are writt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little things that happen everyday make wonderful writing topics- jumping on the bed your brother throwing his food on your plate, your dog getting into the garbage can. (Mentor Text: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ight Shift Daddy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inelli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e Paperboy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av Pilke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ich conversations cultivate wri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r goal is to offer children the opportunity to bring their lives to school and put their lives on the p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33360" y="10663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 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05120" y="228564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onents of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ewri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raf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vi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di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ublis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ngs to consid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riting is not linear, nor should it be necessar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nk about how to integrate multiple sign systems into the process (i.e., drama, music, movement/dance, ar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6" descr="6a00e54efa53e088330133f0eab2a9970b-800wi"/>
          <p:cNvPicPr/>
          <p:nvPr/>
        </p:nvPicPr>
        <p:blipFill>
          <a:blip r:embed="rId1"/>
          <a:stretch/>
        </p:blipFill>
        <p:spPr>
          <a:xfrm>
            <a:off x="0" y="0"/>
            <a:ext cx="251460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82880" y="228600"/>
            <a:ext cx="62611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Workshop Approach to Writ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438280" y="1752480"/>
            <a:ext cx="672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niless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pendent writing; students writing on a variety of top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ents working at different stages of the writing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ired revising and edi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blishing center with material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ferencing with tea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hors’ Ch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6" descr="ANd9GcS15J6T8pPQ6E9C5Uu8l2_E9g_KyOgIQa1JYracTkylT4fUuitvcA"/>
          <p:cNvPicPr/>
          <p:nvPr/>
        </p:nvPicPr>
        <p:blipFill>
          <a:blip r:embed="rId1"/>
          <a:stretch/>
        </p:blipFill>
        <p:spPr>
          <a:xfrm>
            <a:off x="228600" y="0"/>
            <a:ext cx="2276640" cy="2009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ANd9GcRiD6MDWs1E4e8HWc6HjCkBESV8qPkTKGCVu8V4_RBgbITWJDTEXQ"/>
          <p:cNvPicPr/>
          <p:nvPr/>
        </p:nvPicPr>
        <p:blipFill>
          <a:blip r:embed="rId2"/>
          <a:stretch/>
        </p:blipFill>
        <p:spPr>
          <a:xfrm>
            <a:off x="6781680" y="5087880"/>
            <a:ext cx="2362320" cy="1770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script%20rehearsal"/>
          <p:cNvPicPr/>
          <p:nvPr/>
        </p:nvPicPr>
        <p:blipFill>
          <a:blip r:embed="rId3"/>
          <a:stretch/>
        </p:blipFill>
        <p:spPr>
          <a:xfrm>
            <a:off x="0" y="3429000"/>
            <a:ext cx="23367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day’s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32767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the Syllabus and Course Poli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ivate Prior Knowledge of Language Arts I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Writer’s Worksh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t-up or Writer’s Noteboo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ANd9GcQDe1LYk075KonpzF9PhFwJoQD5iDxuEbRAAcPK4aK-IAn4gp5P"/>
          <p:cNvPicPr/>
          <p:nvPr/>
        </p:nvPicPr>
        <p:blipFill>
          <a:blip r:embed="rId1"/>
          <a:stretch/>
        </p:blipFill>
        <p:spPr>
          <a:xfrm>
            <a:off x="685800" y="457200"/>
            <a:ext cx="1981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ritten anything good latel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en do you write? What do you wri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ith a partner complete the “Written Anything Good” Ch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http://writingfix.com/images/picture_books/written_anything_good_lately.jpg"/>
          <p:cNvPicPr/>
          <p:nvPr/>
        </p:nvPicPr>
        <p:blipFill>
          <a:blip r:embed="rId1"/>
          <a:stretch/>
        </p:blipFill>
        <p:spPr>
          <a:xfrm>
            <a:off x="5410080" y="3200400"/>
            <a:ext cx="320040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63244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do people writ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62120" y="1371600"/>
            <a:ext cx="5486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rrative/Personal Narra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crip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osi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sua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ort or Re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e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ter wri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urna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ive Writing (Fiction/Fantas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ng Lyr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AutoShape 2"/>
          <p:cNvSpPr/>
          <p:nvPr/>
        </p:nvSpPr>
        <p:spPr>
          <a:xfrm>
            <a:off x="155520" y="-88416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155520" y="-88416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155520" y="-88416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155520" y="-88416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C:\Documents and Settings\dana\Local Settings\Temporary Internet Files\Content.IE5\Y1G7GE0C\MP900309384[1].jpg"/>
          <p:cNvPicPr/>
          <p:nvPr/>
        </p:nvPicPr>
        <p:blipFill>
          <a:blip r:embed="rId1"/>
          <a:stretch/>
        </p:blipFill>
        <p:spPr>
          <a:xfrm>
            <a:off x="6858000" y="9144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:\Documents and Settings\dana\Local Settings\Temporary Internet Files\Content.IE5\W0IJQKNV\MP900439466[1].jpg"/>
          <p:cNvPicPr/>
          <p:nvPr/>
        </p:nvPicPr>
        <p:blipFill>
          <a:blip r:embed="rId2"/>
          <a:stretch/>
        </p:blipFill>
        <p:spPr>
          <a:xfrm>
            <a:off x="6705720" y="4876920"/>
            <a:ext cx="2214360" cy="1676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C:\Documents and Settings\dana\Local Settings\Temporary Internet Files\Content.IE5\W0IJQKNV\MC900371064[1].wmf"/>
          <p:cNvPicPr/>
          <p:nvPr/>
        </p:nvPicPr>
        <p:blipFill>
          <a:blip r:embed="rId3"/>
          <a:stretch/>
        </p:blipFill>
        <p:spPr>
          <a:xfrm>
            <a:off x="4952880" y="2362320"/>
            <a:ext cx="1600200" cy="1407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https://encrypted-tbn3.gstatic.com/images?q=tbn:ANd9GcTtcMs1EZIZ4hlwZqSfPtKkt7V_xIY33PjTQ53p_eAWDb3H7Xfn"/>
          <p:cNvPicPr/>
          <p:nvPr/>
        </p:nvPicPr>
        <p:blipFill>
          <a:blip r:embed="rId4"/>
          <a:stretch/>
        </p:blipFill>
        <p:spPr>
          <a:xfrm>
            <a:off x="7010280" y="2743200"/>
            <a:ext cx="1486080" cy="1947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6" descr="C:\Documents and Settings\dana\Local Settings\Temporary Internet Files\Content.IE5\Y1G7GE0C\MC900311400[1].wmf"/>
          <p:cNvPicPr/>
          <p:nvPr/>
        </p:nvPicPr>
        <p:blipFill>
          <a:blip r:embed="rId5"/>
          <a:stretch/>
        </p:blipFill>
        <p:spPr>
          <a:xfrm>
            <a:off x="0" y="0"/>
            <a:ext cx="129528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chor Chart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chers Co-Construct charts with the 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ts are used as refe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lp develop independence during workshop ti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Out of the mouths of babes - anchor chart which shows children's thinking about what writers write. From a fabulous blog, &quot;First Grade Parade&quot;. Check it out!"/>
          <p:cNvPicPr/>
          <p:nvPr/>
        </p:nvPicPr>
        <p:blipFill>
          <a:blip r:embed="rId1"/>
          <a:stretch/>
        </p:blipFill>
        <p:spPr>
          <a:xfrm>
            <a:off x="5522760" y="917640"/>
            <a:ext cx="217332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we do know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80880" y="2514600"/>
          <a:ext cx="8229600" cy="3733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36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ade Lev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  Persua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 Info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 Convey an Experi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78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  <p:sp>
        <p:nvSpPr>
          <p:cNvPr id="135" name="TextBox 4"/>
          <p:cNvSpPr/>
          <p:nvPr/>
        </p:nvSpPr>
        <p:spPr>
          <a:xfrm>
            <a:off x="457200" y="129528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ion of Communicative Purposes by Grade in the 2011 NAEP Writing Framework  (ccss, http://www.corestandards.org/assets/CCSSI_ELA%20Standards.pdf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t is terribly important for kids to read and write for the reasons that people the world over read and write, which is to communicate, to be delighted, to laugh.”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Lucy Calki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terature Circ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ext time: Literature Circle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gn up for a book on the Wiki (choose what really interests yo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6" descr="ANd9GcSRdp9P2m1QpPqUDOW0wcDVhyLKidCtwYVBtytlPNXNxoCD9eWI"/>
          <p:cNvPicPr/>
          <p:nvPr/>
        </p:nvPicPr>
        <p:blipFill>
          <a:blip r:embed="rId1"/>
          <a:stretch/>
        </p:blipFill>
        <p:spPr>
          <a:xfrm>
            <a:off x="2590920" y="3809880"/>
            <a:ext cx="3124080" cy="29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oking Ahe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gn up for the novel you would like to read for your literature cir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d Ch. 2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anguage Arts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nk about creating a community of learners. Complete a 3, 2,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- Ideas that are new to you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- Connec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- Ques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d a text for Building Community and bring to class next time (See the Wiki for idea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ing your writer’s noteboo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6" descr="ANd9GcQgf5e7HxXshRTOg8gJVyNxk8wyQnc2EMzuIYHApldJoxzXxRUNKA"/>
          <p:cNvPicPr/>
          <p:nvPr/>
        </p:nvPicPr>
        <p:blipFill>
          <a:blip r:embed="rId1"/>
          <a:stretch/>
        </p:blipFill>
        <p:spPr>
          <a:xfrm>
            <a:off x="0" y="0"/>
            <a:ext cx="320040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contact Inform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ana Karrak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Garmo 243, ph: 438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120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454-9653 (h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mail: dmkarra@ilstu.ed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fice Hours: Make an appointment or I will announce times for Skype office hou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Skype: dana.karraker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I’m on most evenings to chat and answer questions and will have  specified times when you are working on major assignment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mportant Info on Commun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440" y="16765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lease use ilstu email to contact me at dmkarra@ilstu.edu (Department policy) I can only use your university email address to correspond with yo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You are welcome to call my home phone before 9:00 p.m. (If email absolutely won’t do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ssignments and resources will be placed the course wiki, which you can access at http://ci264-languagearts.wikispaces.com/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yllabus Qui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rse Poli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ign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rse Calend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ANd9GcQTHdVRyoDDmkIOFH1K5OhREeZ1iBRrZMXcYmDjs5ZSVf1tInbw"/>
          <p:cNvPicPr/>
          <p:nvPr/>
        </p:nvPicPr>
        <p:blipFill>
          <a:blip r:embed="rId1"/>
          <a:stretch/>
        </p:blipFill>
        <p:spPr>
          <a:xfrm>
            <a:off x="5257800" y="3352680"/>
            <a:ext cx="30812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 will I find course material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Object 11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48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74268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 a course pac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57160" indent="-74268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all or email Dana- she will tell 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57160" indent="-74268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urse Wik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57160" indent="-74268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class blo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C:\Program Files\Microsoft Office\MEDIA\CAGCAT10\j0299125.wmf"/>
          <p:cNvPicPr/>
          <p:nvPr/>
        </p:nvPicPr>
        <p:blipFill>
          <a:blip r:embed="rId3"/>
          <a:stretch/>
        </p:blipFill>
        <p:spPr>
          <a:xfrm>
            <a:off x="6019920" y="2819520"/>
            <a:ext cx="175248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restart="never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 I really need help with something  I should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Object 13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ffer in silence. This instructor does not like to help 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an appointment to see the instructor or find out when she is on Skype and chat with 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C:\Documents and Settings\dana\Local Settings\Temporary Internet Files\Content.IE5\MQF1OCIX\MC900441902[1].wmf"/>
          <p:cNvPicPr/>
          <p:nvPr/>
        </p:nvPicPr>
        <p:blipFill>
          <a:blip r:embed="rId3"/>
          <a:stretch/>
        </p:blipFill>
        <p:spPr>
          <a:xfrm>
            <a:off x="6477120" y="3235320"/>
            <a:ext cx="196992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restart="never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and when should I contact the instruc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Object 11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510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-514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ail her any time I have a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28560" indent="-514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l her day or n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28560" indent="-514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her at the Pub almost any n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28560" indent="-514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ail her after I have taken some time figure out the answer mysel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C:\Documents and Settings\dana\Local Settings\Temporary Internet Files\Content.IE5\RJJFC5G4\MC900078762[1].wmf"/>
          <p:cNvPicPr/>
          <p:nvPr/>
        </p:nvPicPr>
        <p:blipFill>
          <a:blip r:embed="rId3"/>
          <a:stretch/>
        </p:blipFill>
        <p:spPr>
          <a:xfrm>
            <a:off x="6248520" y="3581280"/>
            <a:ext cx="252396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restart="never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class will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OT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et on camp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556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bruary 11-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ril 1-1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ch 11-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the ab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E of the ab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C:\Documents and Settings\dana\Local Settings\Temporary Internet Files\Content.IE5\Y1G7GE0C\MC900432664[1].png"/>
          <p:cNvPicPr/>
          <p:nvPr/>
        </p:nvPicPr>
        <p:blipFill>
          <a:blip r:embed="rId1"/>
          <a:stretch/>
        </p:blipFill>
        <p:spPr>
          <a:xfrm>
            <a:off x="5867280" y="335268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3T20:02:52Z</dcterms:created>
  <dc:creator>dana karraker</dc:creator>
  <dc:description/>
  <dc:language>en-US</dc:language>
  <cp:lastModifiedBy>College of Education</cp:lastModifiedBy>
  <dcterms:modified xsi:type="dcterms:W3CDTF">2013-01-15T17:17:34Z</dcterms:modified>
  <cp:revision>37</cp:revision>
  <dc:subject/>
  <dc:title>C&amp;I264: Building Community </dc:title>
</cp:coreProperties>
</file>